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A30-FA1A-4098-BEA5-6415311C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09C-0C8A-4E39-945F-3AD89389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B1FBE-44D6-48EA-A4F0-13107924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0177E-4864-41A9-8C24-4D4BA326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9ABF3-696D-4562-B485-AEE94D9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3AF8B-0310-4BD6-BA02-E19FEEEE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AD5FE-AF6C-4E3E-9479-00D7C44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6D74D-859C-48C6-89DC-2EC00E3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A099F-B2A6-49F9-97E0-02589459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DA72C-9430-4E90-8ADE-02859BF4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6ED6B-6FDF-4EC2-8C43-053B144E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F8F9C-CBC4-4359-B8B4-5102200B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68D-EBA6-4E26-9C94-C02F15E8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2D34B-3182-4E86-A387-B3AE635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D1B69-8C0B-43E7-80C0-1B20C040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347FE-F1FD-4CE5-B7A6-5C61494F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EA8B3-8244-4A7D-AC1F-0618B76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61E2C-62DE-49CE-AE52-D3778118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4E157-59F8-44D3-84D2-D571B40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BBC8D-F3A2-45BA-BA05-36DAA09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A17E2-21FD-48D1-8D0D-A2447D25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317BE-48C6-4F3A-A0D8-BAAB3CDE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04F88-C606-48F4-ADFE-7B9AEA04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C63-4223-43ED-9B66-89A8C5C7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421F6-EF79-45B3-ACFF-19076DF2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4D0AB-21A8-4D81-AB8C-C2F26D6F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00724-B43B-4359-BB5D-EC72134C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BAE83-66A1-4AE0-9D4C-63533FEB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7332D-5B42-41CA-86CC-47434DFB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A0F16-4F43-43D8-BF30-9BD81F87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EDA23-FC9D-4CEE-89EA-ED62EDFC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657FD-664E-4A61-8C98-BDEC480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FDB28-A6A3-436C-A0C0-B99020C9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C93C2-FABC-4A5A-8EC2-160BFD1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6BDA-DF37-4A43-ABE5-2EF7D41D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FAE21-BA28-4A99-A6B3-CB2A125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65BC4-B11F-458B-8BD4-80DBF25A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D89CD-354C-49D9-914B-A00DE4AC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21F9D-0786-4429-A8EC-1A4E1193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F9BDC-7C74-49F5-B0D7-39E89FB3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7940F-869A-40D1-AEF4-8174810A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44958-9AFB-421D-A21A-D4C30B9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0AA30-FAB1-489E-8EFC-50150787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A5EF9-F19C-4A41-B52B-F9356678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48F13-F728-4278-9C58-099251B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E502-8353-401C-B6C1-3092738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A4CD9-14DB-4AC4-9DD2-74A7A03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D2773-1102-4FB1-A1FD-8BD01B7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A3FE1-9AEF-4B25-B2A7-179715AB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FDE6B-25E8-4D6A-B057-24CD05F7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63806-1F03-47BE-84DC-4FEE00A2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6A1E2-384C-4E98-83FF-1CBA3461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3E8C6-03F8-47F3-9211-01834A94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46904-DB97-4065-BF35-624E125D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6D3FA-9324-492E-B9A9-7252043F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DCD93-2433-4748-8525-82A7C780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79BF-8A67-4310-ABA9-E05E4E34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AD4A6-C393-4D95-A222-4FD7F96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DE889-131D-4C5F-9758-6BF83AB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F9A99-304D-4161-BDBE-3AC31EE5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6CAD9-5956-40CC-8043-2B078EAB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2CD16-0043-4D20-AA59-B7E06DD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06EF3-D449-4527-A7ED-70DBA375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D3267-3AD4-41CF-97D4-DB8E632D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68BAE-5D36-4D46-8C67-97D83397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808B4-FA7D-4136-A70F-78B7DB6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B2965-F96B-41D0-B2A6-08FBA12C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A66C-86FD-4BD0-9550-84C4C16D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1E4C9-A0B1-49D1-92E7-66601801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EC43B-388E-40DC-A466-3C958514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F7A11-C77B-4BDB-8061-E7805653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004B8-F5CE-4C5A-BD6D-3FC346DB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E50C7-2306-4D49-8924-2A2E7D4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4806E-AAD3-46B5-95ED-AB6F7B1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632E3-9379-4AE7-B577-0739E08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3BE71-101F-4CB7-86C5-2057CD4F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810E2-CDCC-4E67-BF2C-8FCAC9D7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844CF-942E-4CAC-BC16-72B6C7AE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4C5F-C520-458B-9F15-8D1945B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56363-1BD3-41CB-AD69-9CD3087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5BF4B-51E3-4A1C-AEC8-4F132D46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E5A33-CD03-4B3C-81EB-34307BE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310ED-60EF-482C-A74E-EFA76648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53DCF-5923-46D8-AE5E-81D9918A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8FBA1-BC41-4726-9292-A562FE7F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B832F-3253-40FC-92EC-CF3C09E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07AED-F278-45BC-87D7-9EB293A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8D4A2-F0EF-4298-BB7F-9893BD08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03FAC-7E4A-41A9-88C4-B7EE9640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91E-145B-47E8-9395-0B912E41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95F58-ACA1-4CA1-8B96-780CCE05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59306-561B-4791-A4B5-7146771C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14103-878C-472B-9E49-3149C56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8ABBF-A73E-45DC-B97D-F31B79EA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9F586-AD0F-4351-947D-A64DE150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0FC56-8A69-4917-B4A1-47DE23A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18C49-0C66-4234-9282-86189BC4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0BF19-6710-4C4D-9076-8FE45FD8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817BA-4FAF-4329-93D0-D78E10F3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B8908-D664-423A-9FAC-1E474E94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3F96-61B2-4334-82BE-1304687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C63AE-B56E-4885-8457-EC6628BC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62B1B-BD89-4A77-BCC8-20C28FA8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18240-8A66-478E-A0E4-56838EE9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39764-60FB-452F-9D2F-2296001E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FFEEA-09F6-4B73-A346-1C54FE98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9BD50-495D-4B23-B378-B88D400A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EF479-D644-4A0C-B10A-BDAEDEDE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00EBD-751A-4FBF-B18B-128CDB34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378CA-54ED-4B3D-81F5-14FAB3E4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A1C51-0248-4654-A498-B8FD79A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81D-FD61-4954-8FC2-A10C355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11A6-BDA2-47A8-A5D7-A9920BE0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60A5B-66B2-4C2D-9E1F-77518D69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7E95D-E515-438E-83FE-915364B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B74A9-BFD4-4247-B952-90A05699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E584FA-6261-4963-AF89-05B00B8A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BD2C3-C0E2-4641-B08E-C869C426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E0582B-9175-4A01-9A73-8667E65D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20C09-4E0A-4886-AC9A-8C87665A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7F5086-C7C1-4E2E-B4F2-35964191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BD019-DA20-40D6-B9D2-B25A1C1C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0985F-20E1-48BD-A50D-3EB86EF9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A77-4F78-486C-B0BA-F6B00B3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2D2D4-73D8-45C1-8EC2-432AD049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92B2D-6362-430E-A0A9-A16C4D1B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95E18-266C-4DE2-B345-1C3C5F87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5AA37-1887-4B78-9833-2CFA2829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A7AAE-70B6-4CE9-9822-99F64C90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38F02-B444-44B1-9598-D19E3478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3EBF9-C0F1-4A1C-BF2A-8383AA84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FF3B25-3463-4133-AEA2-25EFE7BE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39C5B-15A0-489C-8465-7176E8B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F6DAD-F60D-4D17-AD49-74750AF9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2882-AD88-4792-932F-52438D80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7DA71-4A72-425B-BC7B-3F8BE259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06F73-4A2F-490D-8916-1ECDECA6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FAA63-21C0-4323-AB22-E4F81A93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125AE-0B17-4BA3-B9D2-78150384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3CC1F-0711-4FDF-B87D-EDAE440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98A415-AC23-40DF-9EE5-776C76C1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B00DB-EF9B-4032-B740-14288C1D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5A978-42ED-46D6-9BE4-1E819D72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6A08F-2A62-43B7-931B-0E26E62E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7123A-24BF-4240-BDE1-37ABA030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89BF-D109-4A23-80EB-A121CC3C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BD59F-06D1-45C9-9439-51455F4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C8F42-EDC3-4938-B5DB-658559BD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89AED2-2739-466D-8194-FA162E6D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2F093-E655-493B-9B24-04D7E65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D8289-6C1D-4D57-96DD-B52CA635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10EDA-9403-4797-96AC-B4EEB79C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BB196-77FF-4C39-8D57-D1DA221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D211A-2834-40F6-8D74-0FB047D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786B69-A8B0-4FC7-B793-58C3261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8438D-DFC5-4D47-B858-B7A90587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FF56-9BD3-42CB-B659-FD84C346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37405-592D-40DD-AC4F-6393F79A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A978E-076C-4E2F-A10E-51162127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45D64-D62D-4FDD-AD61-1E40071C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C0A066-8E49-4242-B89D-C1B74C99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19A150-6434-4113-A317-DF97F730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4398F-2694-4F53-AAEB-0548EAB4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3E439-3268-4AFC-950A-EE0A83FE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F4AE6-12ED-4B48-8D3D-D08B3D6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8F4FE-6E40-4231-8DA8-1AD92898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016CD-CFE7-4DB0-AB7C-51A03198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C9CD-956F-4E03-A868-FCAF3009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CE392-F841-4C38-B1C3-F7325BD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B6B57-5279-4D09-85C4-F973581E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09A6A-0DDD-47EB-9836-BC8A61BD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12DB-90DD-4811-B237-C369006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E500-CE5C-4293-B0FB-9CB29186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3A7C-62A7-4140-87EB-0F09795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2BAC-9C53-4688-B4AF-6C0C3291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C5A-3074-41E5-814C-7DF65A10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A94E-276E-4226-95B8-93C3D574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D9AE-665E-4D0E-AD19-A77E73A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8459-6084-438E-89FF-09AF28E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2AA9-7BDC-4557-93D1-1C7CC83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7E29-320C-48B1-9569-59FF2A26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FD76-42A4-42B2-9177-32E51D30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E6C8-D215-4EEB-8043-1B7C2C89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27DD-ACAE-44DE-8371-31D8BC3B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66E1-97E6-469D-BC2F-0A1FA1AD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BB51A-CF33-4383-99CD-1C18249D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FEE-47AE-424E-9D32-0542272D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BE79-C63E-44ED-A88C-9F77B97F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5EAB-7293-4077-8F29-D565AAD4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6118-197C-47E6-B267-7DBBDCB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BF4D-0F17-46E6-8DA8-F0D2335B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1E6F-E8FD-4FF5-A53F-284E848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3C286-92F9-41FF-BB92-90286C7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AE52-61D0-48AE-B3E1-D16853D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3E62-DC29-4B31-BF95-A2F72AFE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5C1F-B270-4D67-AACD-2FCF7054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A38D-3AE6-40D3-8E74-40C0CCB3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E40-35E9-40C5-A94E-3E80C0B4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D2CC-294B-42E6-A3B2-E79A6B33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01C66-B31B-4F22-8287-FA80C512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F1894-C271-437F-A4F7-6FE5FF9F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2B76-7233-440E-8D0D-4AB1ADE3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8E98-6735-4D5E-B246-3187E52A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DB7B1-B114-488D-A8DB-E5B64F5E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86C6-3C64-40AC-A719-66C62FBF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D866-0F3A-4241-9C68-1E39E18F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72C4-EB7B-4D52-80B0-A8829C42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2D59-394A-46F5-8D39-C62E0152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B71-548B-4025-BB5D-0F066103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0ADE-3A5C-44CF-95A3-0392CC00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CE61C-899D-49A4-B727-C15C01B0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A4B13-3FE0-4420-8258-78722713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50D51-F89C-4CB8-81E1-629145B0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AD7FD-A591-48B4-9D0E-FF115E89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D238-D10E-42B5-969D-F0DFE42A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73612-D4D0-4350-BA8B-D95098C8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06A4-D347-42E8-AF69-FDA10CBC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146B3-0AFA-4313-BB79-555A6E5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6FD2-0AD8-4F80-8629-A4EB1FC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CD8-AE64-4C0C-BAB6-563FB8C4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3EFA7-11FF-4DC6-9945-06468C3D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A242F-4F85-4E26-9061-6E4E6EF6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C058-5925-4830-B3B4-9CFD6362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1DDD-DC73-4E17-A101-F95C60FD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55F5-A987-4828-98D7-F2C7B485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9A382-497B-4C3A-AF87-83DB7B38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E6A94-AFCD-450F-905C-CC2D9A8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F5163-8079-43C2-AD99-3E7AED3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C8B5F-DE6D-4EBB-AC66-B5FD9C91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439B9-F9F7-4A7B-B45A-D44C8AE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0FC-E86D-4E17-9C48-62DD7216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3CEBD-0360-40CC-8D43-306DCE46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30A44-9621-4800-8694-F44DA94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182D7-536C-4C6B-BB13-FB1F63B0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F5727-AA0C-46BC-85B4-2FAE8E17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7FB84-E805-49A9-8583-B0269934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DC2D5-FFCF-430C-A869-69C2A815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71E14-551B-45A8-AB74-F7414053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6A301-E617-4010-96A0-E827FD10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409F6-5E11-41EC-847A-5DDE027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F3C4F-2992-4113-AEF5-C30D799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89A-749C-4A64-8D47-3B10963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39169-6FC8-47E4-B56E-6BF9D219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24D00-CE79-42B8-86DA-8B394E3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01E9-D034-4E94-958E-A901EB7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F1E3A-D02A-4324-A07D-DD4293E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2AA5D-6D12-4F46-B23F-D340A51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ED39-02D5-4DBF-B792-216A1185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B89AD-D734-440B-9079-35EEE577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FD48C-9B5F-4A8F-A47E-7026B872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AF0CE-CBF5-42B9-BB39-86CBA35D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CDD6A-ED37-4BA6-B752-FAE35CC3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A38-D78A-4577-9DE0-4BEBECF6A8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0BE5-7D0F-4317-90AA-E6900740F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5347-E0FD-4646-A44E-260CBB927A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FE04-0BC5-4313-B8B5-C75F6CACD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35AD-9F44-4E40-811B-F5DA6D0B2F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DD70-1D31-4C32-A32F-A82F6F0DE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7DD7-9D40-428B-B4E5-46B44F63B1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838C-CB4D-4356-898F-6A8B8C6D8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3C9B-1606-49BD-9812-7C273FA11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E03A-BF16-4CC0-A510-389F57320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1A7D-EF83-431A-A25F-9A965FCF0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9A59-A1CE-4A4B-9B9B-A328BB063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8018-5F37-4BF7-9963-EE0D310BC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923-9718-4759-8896-A8CF6C7B8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CD4-CE94-411A-A301-180096D70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E3DD-1013-4EDF-8F0A-812D9EEAD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2CEC-303A-4B13-B51E-1C99B30CA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504A-6F09-4272-878A-32E2B3394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158C-7A8A-48A0-A714-D17C0DC843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3471-EEFF-4458-BAC5-2C63B9A68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DC6-ACDC-4621-9DFF-118C81209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7E7D-8AFA-4019-A346-6FACA624E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D10-D2BC-4884-BEA2-2E639F40CC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F8AC-E5CB-438C-8588-F5B772CBC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51D-26B3-461D-8FFA-AFEA94F658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8EB2-E59D-4124-A337-7D2939C771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99EF-DC60-4A8D-9553-9911CF7234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FAD5-0ABD-4705-BA93-9A9CE6E29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07D4-1777-45F0-BF0E-08B0C0D5BA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A346-229D-4FE0-81A5-E83FEF31ED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053B-BFA9-47CB-B069-85FB01FEC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FFC-D9C3-41AF-A41F-6190D72BD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9BE4-5B80-4AD4-8E69-32F518DE7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A31-8973-479A-B83D-0B9F9A2C67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006-95F6-4C6B-B14C-6C52B2AC7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A120-DE7B-4F32-8D34-5EC332296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B489-9607-4AFC-A43A-8FA148BAF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926-0F62-4651-85EE-EE163B6996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9C5D-3E41-4457-89EC-41667DE1E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363C-8279-417A-B739-6F5F18A673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00120" y="2133720"/>
            <a:ext cx="6143760" cy="9334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200240" y="3705120"/>
            <a:ext cx="67435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285840" y="846000"/>
            <a:ext cx="8572320" cy="5391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4608720" cy="513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4608360" cy="512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684360" y="5099040"/>
            <a:ext cx="4608360" cy="5126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55640" y="5791320"/>
            <a:ext cx="4608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33280" y="905040"/>
            <a:ext cx="8677440" cy="5047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411280" y="531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948360" y="5315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738360" y="2109960"/>
            <a:ext cx="7667280" cy="2638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116160" y="402588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665680" y="4033800"/>
            <a:ext cx="4334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281160" y="938160"/>
            <a:ext cx="8581680" cy="49816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627280" y="36370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6156360" y="293832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6775560" y="292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2728800" y="45799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6443640" y="5342040"/>
            <a:ext cx="4334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700200" y="1457280"/>
            <a:ext cx="7743600" cy="3943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2556000" y="17305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2930400" y="2421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789600" y="1700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6429240" y="23781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4140360" y="3327480"/>
            <a:ext cx="936360" cy="3841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6227640" y="3343320"/>
            <a:ext cx="936720" cy="3841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3276720" y="3789360"/>
            <a:ext cx="503280" cy="384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5407200" y="3832200"/>
            <a:ext cx="893520" cy="384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3276720" y="4292640"/>
            <a:ext cx="1150920" cy="384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7567560" y="4278240"/>
            <a:ext cx="503280" cy="384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2556000" y="4795920"/>
            <a:ext cx="503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33280" y="299880"/>
            <a:ext cx="8677440" cy="6258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7812000" y="148428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7812000" y="371628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7812000" y="6035760"/>
            <a:ext cx="576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295200" y="1128600"/>
            <a:ext cx="8553600" cy="4600800"/>
          </a:xfrm>
          <a:prstGeom prst="rect">
            <a:avLst/>
          </a:prstGeom>
          <a:ln w="0">
            <a:noFill/>
          </a:ln>
        </p:spPr>
      </p:pic>
      <p:grpSp>
        <p:nvGrpSpPr>
          <p:cNvPr id="952" name="组合 55303"/>
          <p:cNvGrpSpPr/>
          <p:nvPr/>
        </p:nvGrpSpPr>
        <p:grpSpPr>
          <a:xfrm>
            <a:off x="1212840" y="3701880"/>
            <a:ext cx="7162920" cy="2025720"/>
            <a:chOff x="1212840" y="3701880"/>
            <a:chExt cx="7162920" cy="2025720"/>
          </a:xfrm>
        </p:grpSpPr>
        <p:pic>
          <p:nvPicPr>
            <p:cNvPr id="953" name="图片 55301" descr=""/>
            <p:cNvPicPr/>
            <p:nvPr/>
          </p:nvPicPr>
          <p:blipFill>
            <a:blip r:embed="rId2"/>
            <a:stretch/>
          </p:blipFill>
          <p:spPr>
            <a:xfrm>
              <a:off x="1212840" y="3701880"/>
              <a:ext cx="716292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3"/>
            <a:stretch/>
          </p:blipFill>
          <p:spPr>
            <a:xfrm>
              <a:off x="2987640" y="5214960"/>
              <a:ext cx="4248360" cy="51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4276" descr=""/>
          <p:cNvPicPr/>
          <p:nvPr/>
        </p:nvPicPr>
        <p:blipFill>
          <a:blip r:embed="rId1"/>
          <a:stretch/>
        </p:blipFill>
        <p:spPr>
          <a:xfrm>
            <a:off x="414360" y="917640"/>
            <a:ext cx="8315280" cy="53910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2268360" y="3125880"/>
            <a:ext cx="1511640" cy="965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6213600" y="3141720"/>
            <a:ext cx="1511280" cy="965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2340000" y="4970520"/>
            <a:ext cx="1511280" cy="965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156360" y="4954680"/>
            <a:ext cx="15112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2231" descr=""/>
          <p:cNvPicPr/>
          <p:nvPr/>
        </p:nvPicPr>
        <p:blipFill>
          <a:blip r:embed="rId1"/>
          <a:stretch/>
        </p:blipFill>
        <p:spPr>
          <a:xfrm>
            <a:off x="433440" y="285840"/>
            <a:ext cx="8277120" cy="6286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5013360"/>
            <a:ext cx="3672000" cy="936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1042920" y="6064200"/>
            <a:ext cx="6193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17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